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0D23E-9FC5-4000-A960-69448C3C0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6B4E-FB40-474A-87E6-E8A982CC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FEA4B-DC59-45D2-9291-F4DFAE3E6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0733E-9CB9-428A-9B5C-A53AF0997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F77D0-4679-4687-BD52-91E62B449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FE576-3CAC-4A7A-9393-964B435AA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5171B-ED8D-4ED8-8B9D-72BFF0EB2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CA5D0-34E7-4AEB-970D-75DD43F58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8EC26-B4A4-4A8F-86F9-E35E8454B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846AF-10E4-4C32-B034-71FB47A6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734F-E366-43D4-82C8-AA3DCE57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E99D-CC5D-4BAC-A1AF-27FE67215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1D413-E5E5-44BE-A549-F4E900A3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CE98E-C45E-486C-860A-3BF3486EB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3170A-F43D-4776-A9CB-66D64359E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58456-0018-4F15-9630-C1F834856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A40B6-A503-412F-9F35-BD11F2C6F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BCE1-BE96-411F-96A6-4DD400BAD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0D9E-F2BE-4C69-A7BF-DB7F3571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EE9AA-D54A-49C5-8B86-237340529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B13ED-B275-4F17-AA24-D0BF9FA7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066D-6E32-4F1F-A40C-A1853834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0EE6-2ECC-4A42-9EFB-0C857E87A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6CAA-95F6-4331-A451-7D6371EAD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DEEA-5A47-4360-AB6E-092FB14C9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DAE3-762C-48BB-9E4C-019F52AFC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ve Writing Review</a:t>
            </a:r>
            <a:endParaRPr b="0" lang="en-US" sz="3600" spc="-1" strike="noStrike">
              <a:solidFill>
                <a:srgbClr val="000000"/>
              </a:solidFill>
              <a:latin typeface="Arial"/>
            </a:endParaRPr>
          </a:p>
        </p:txBody>
      </p:sp>
      <p:sp>
        <p:nvSpPr>
          <p:cNvPr id="83" name="PlaceHolder 2"/>
          <p:cNvSpPr>
            <a:spLocks noGrp="1"/>
          </p:cNvSpPr>
          <p:nvPr>
            <p:ph type="subTitle"/>
          </p:nvPr>
        </p:nvSpPr>
        <p:spPr>
          <a:xfrm>
            <a:off x="1442880" y="4190760"/>
            <a:ext cx="7313760" cy="1447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Going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 look at this picture</a:t>
            </a:r>
            <a:endParaRPr b="0" lang="en-US" sz="3600" spc="-1" strike="noStrike">
              <a:solidFill>
                <a:srgbClr val="000000"/>
              </a:solidFill>
              <a:latin typeface="Arial"/>
            </a:endParaRPr>
          </a:p>
        </p:txBody>
      </p:sp>
      <p:sp>
        <p:nvSpPr>
          <p:cNvPr id="85"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e heck is going on?</a:t>
            </a:r>
            <a:endParaRPr b="0" lang="en-US" sz="3600" spc="-1" strike="noStrike">
              <a:solidFill>
                <a:srgbClr val="000000"/>
              </a:solidFill>
              <a:latin typeface="Arial"/>
            </a:endParaRPr>
          </a:p>
        </p:txBody>
      </p:sp>
      <p:sp>
        <p:nvSpPr>
          <p:cNvPr id="8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se two people do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ir na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talking ab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reative paragraph describing the sc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but how did they get there?</a:t>
            </a:r>
            <a:endParaRPr b="0" lang="en-US" sz="3600" spc="-1" strike="noStrike">
              <a:solidFill>
                <a:srgbClr val="000000"/>
              </a:solidFill>
              <a:latin typeface="Arial"/>
            </a:endParaRPr>
          </a:p>
        </p:txBody>
      </p:sp>
      <p:sp>
        <p:nvSpPr>
          <p:cNvPr id="90"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ve described some action, tell us how they got there.  Write an introduction / prologue describing the situation(s) that put these two people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I can’t hear you!</a:t>
            </a:r>
            <a:endParaRPr b="0" lang="en-US" sz="3600" spc="-1" strike="noStrike">
              <a:solidFill>
                <a:srgbClr val="000000"/>
              </a:solidFill>
              <a:latin typeface="Arial"/>
            </a:endParaRPr>
          </a:p>
        </p:txBody>
      </p:sp>
      <p:sp>
        <p:nvSpPr>
          <p:cNvPr id="92"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se people dialogue!  Don’t just outline the things they are saying, but make them actually SAY 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ut how do we do that?” Ashley asked, inquisitive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th a knowing grin, Ryan responded, “I guess we need to review our rules as a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int a Mental Picture</a:t>
            </a:r>
            <a:endParaRPr b="0" lang="en-US" sz="3600" spc="-1" strike="noStrike">
              <a:solidFill>
                <a:srgbClr val="000000"/>
              </a:solidFill>
              <a:latin typeface="Arial"/>
            </a:endParaRPr>
          </a:p>
        </p:txBody>
      </p:sp>
      <p:sp>
        <p:nvSpPr>
          <p:cNvPr id="94"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story bet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words that give this story LIF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creative prowess, use adjectives and adverbs to creative a mental pic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literary ninjas that you are, instill in us a sense of </a:t>
            </a:r>
            <a:r>
              <a:rPr b="0" i="1" lang="en-US" sz="2400" spc="-1" strike="noStrike">
                <a:solidFill>
                  <a:srgbClr val="000000"/>
                </a:solidFill>
                <a:latin typeface="Arial"/>
              </a:rPr>
              <a:t>being </a:t>
            </a:r>
            <a:r>
              <a:rPr b="0" lang="en-US" sz="2400" spc="-1" strike="noStrike">
                <a:solidFill>
                  <a:srgbClr val="000000"/>
                </a:solidFill>
                <a:latin typeface="Arial"/>
              </a:rPr>
              <a:t>in the story – allowing our very senses to be filled with the experience you have cre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what?</a:t>
            </a:r>
            <a:endParaRPr b="0" lang="en-US" sz="3600" spc="-1" strike="noStrike">
              <a:solidFill>
                <a:srgbClr val="000000"/>
              </a:solidFill>
              <a:latin typeface="Arial"/>
            </a:endParaRPr>
          </a:p>
        </p:txBody>
      </p:sp>
      <p:sp>
        <p:nvSpPr>
          <p:cNvPr id="96"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se two individuals wrap up their meeting, what’s going to happen?  What will be the last words they say to each other?  What action(s) will they leave on?  Write the epilo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 look at this picture</a:t>
            </a:r>
            <a:endParaRPr b="0" lang="en-US" sz="3600" spc="-1" strike="noStrike">
              <a:solidFill>
                <a:srgbClr val="000000"/>
              </a:solidFill>
              <a:latin typeface="Arial"/>
            </a:endParaRPr>
          </a:p>
        </p:txBody>
      </p:sp>
      <p:sp>
        <p:nvSpPr>
          <p:cNvPr id="9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5:25:54Z</dcterms:created>
  <dc:creator>Administrator</dc:creator>
  <dc:description/>
  <dc:language>en-US</dc:language>
  <cp:lastModifiedBy>Administrator</cp:lastModifiedBy>
  <dcterms:modified xsi:type="dcterms:W3CDTF">2006-05-03T13:27:37Z</dcterms:modified>
  <cp:revision>4</cp:revision>
  <dc:subject/>
  <dc:title>Creative Writing Review</dc:title>
</cp:coreProperties>
</file>